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0E3A-D073-453B-93B8-9CD561E9E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0CB3-31B1-4944-9FA8-DE47BD68C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DA9-59D6-492F-A7E6-31974BA0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296-9330-4FE1-8CDB-4CD234BA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9CC-D202-4736-94A8-4F0C41D9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DFE-7129-46C9-A10A-FB4E9BBD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36D-F633-4498-8427-84EAE91D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D89-5333-4740-9A24-FE5D461E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2A8-5133-4A4A-BA29-0F9388A4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585-5281-4DF4-9EA3-81E14994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826-091F-4520-BCA9-10973F04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F71-B9AC-477C-B7DB-6BF76339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D59-C695-489D-A5B0-508C81C8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648-6382-4E03-85AC-DB3AE378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9583-8AB8-4002-B1D9-48AA63181718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25.xml"/><Relationship Id="rId11" Type="http://schemas.openxmlformats.org/officeDocument/2006/relationships/slide" Target="slide35.xml"/><Relationship Id="rId12" Type="http://schemas.openxmlformats.org/officeDocument/2006/relationships/slide" Target="slide45.xml"/><Relationship Id="rId13" Type="http://schemas.openxmlformats.org/officeDocument/2006/relationships/slide" Target="slide17.xml"/><Relationship Id="rId14" Type="http://schemas.openxmlformats.org/officeDocument/2006/relationships/slide" Target="slide27.xml"/><Relationship Id="rId15" Type="http://schemas.openxmlformats.org/officeDocument/2006/relationships/slide" Target="slide37.xml"/><Relationship Id="rId16" Type="http://schemas.openxmlformats.org/officeDocument/2006/relationships/slide" Target="slide47.xml"/><Relationship Id="rId17" Type="http://schemas.openxmlformats.org/officeDocument/2006/relationships/slide" Target="slide19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9.xml"/><Relationship Id="rId21" Type="http://schemas.openxmlformats.org/officeDocument/2006/relationships/slide" Target="slide39.xml"/><Relationship Id="rId22" Type="http://schemas.openxmlformats.org/officeDocument/2006/relationships/slide" Target="slide49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" Target="slide33.xml"/><Relationship Id="rId27" Type="http://schemas.openxmlformats.org/officeDocument/2006/relationships/slide" Target="slide43.xml"/><Relationship Id="rId28" Type="http://schemas.openxmlformats.org/officeDocument/2006/relationships/slide" Target="slide53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structions for using this Jeopardy Board, which has been modified by R. Fox to contain 5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Grade questions .</a:t>
            </a:r>
            <a:endParaRPr b="0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en file in PowerPoint and under View select slide show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.   On the first screen click the bottom right-hand corner to begin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ect category and amount. The answer will appear. Player must state question: Who is? What i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. Scores must be kept manually. If playing whole group, you could provide index cards with amounts to more easily keep scor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**When clicking on the slide to move to the next appropriate slide, be sure you see the hand, not the arrow.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(If you put your cursor over a text box, it will be an arrow and WILL NOT take you to the right location.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decompos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st humans are this kind of consum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m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giver of all life energ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eak of a story’s a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climax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9051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ter Piper picked a peck of pickled pepper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lliteratio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s cold as ic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simi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eason an author writes a specific sele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author’s purpos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905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hotograph, drawing, or chart that accompanies a tex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graphic sour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answer to a division problem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quotien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oni needs 120 inches of rope in feet for his tree swing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t is 10 fee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4479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triangle with an angle that measures more than 180°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btuse triang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air of lines that intersect to form right angl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erpendicular lin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175248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number that has but two factors: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ne and itself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rime numb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line of latitude is located at 0° latitud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quato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ocean located off the coast of Californi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Pacific Oc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19810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high flat mountain with steep sid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ocial Studi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mma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6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es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98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end of a riv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outh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002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longest river in North America. 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issouri Riv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19810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erson, place, thing, or ide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60948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ere, when, how, and to what extent about a ver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verb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3049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at kind, which one, and how many about a nou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-30492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838080" y="213372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way of living and eating unique to a speci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jectiv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0948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rom, to, near, beneath, above, below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reposi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2133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d, but, &amp; o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jun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8580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istance around a circl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circum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ich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5800" y="16002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consumer that eats only mea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r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5800" y="182880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kind of consumer that feeds on dead and decaying animal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22:21:19Z</dcterms:created>
  <dc:creator>Valued Customer</dc:creator>
  <dc:description/>
  <dc:language>en-US</dc:language>
  <cp:lastModifiedBy>Teacher Teacher</cp:lastModifiedBy>
  <dcterms:modified xsi:type="dcterms:W3CDTF">2010-06-22T01:22:59Z</dcterms:modified>
  <cp:revision>31</cp:revision>
  <dc:subject/>
  <dc:title>No Slide Title</dc:title>
</cp:coreProperties>
</file>