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37C1-80EA-4166-A7B5-B5FD32492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66CD-6427-41F0-BA1F-86316EB15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0F6-1E08-421A-AD04-329F9192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350-607E-4D24-B0CE-43A93D81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208-7D66-4DEF-9A50-4CBA98FA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EA4-5E83-460C-B248-F909EAE9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396-CB2A-46AA-A63C-B9A311AA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249-57BB-48A0-8FAF-11D3C338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1A1-FD90-446A-897B-83F70C6D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387-2525-4BD4-B117-5E1E0A4C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81A-02A7-47DD-8BC6-CAAE9E54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E86-B64C-4494-A2B0-DAF1D070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760-A520-4DCF-84B5-E72CF64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B51-8139-4EC8-BE61-1FA7F54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8FA2-0C76-4409-8B10-987C097E6D1A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25.xml"/><Relationship Id="rId11" Type="http://schemas.openxmlformats.org/officeDocument/2006/relationships/slide" Target="slide35.xml"/><Relationship Id="rId12" Type="http://schemas.openxmlformats.org/officeDocument/2006/relationships/slide" Target="slide45.xml"/><Relationship Id="rId13" Type="http://schemas.openxmlformats.org/officeDocument/2006/relationships/slide" Target="slide17.xml"/><Relationship Id="rId14" Type="http://schemas.openxmlformats.org/officeDocument/2006/relationships/slide" Target="slide27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9.xml"/><Relationship Id="rId21" Type="http://schemas.openxmlformats.org/officeDocument/2006/relationships/slide" Target="slide39.xml"/><Relationship Id="rId22" Type="http://schemas.openxmlformats.org/officeDocument/2006/relationships/slide" Target="slide49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" Target="slide33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tructions for using this Jeopardy Board, which has been modified by R. Fox to contain 5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Grade questions .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en file in PowerPoint and under View select slide show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.   On the first screen click the bottom right-hand corner to begin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 category and amount. The answer will appear. Player must state question: Who is? What i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. Scores must be kept manually. If playing whole group, you could provide index cards with amounts to more easily keep scor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**When clicking on the slide to move to the next appropriate slide, be sure you see the hand, not the arrow.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(If you put your cursor over a text box, it will be an arrow and WILL NOT take you to the right location.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decompos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st humans are this kind of consum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m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giver of all life energ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eak of a story’s a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climax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051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ter Piper picked a peck of pickled peppe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lliteratio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s cold as i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simi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eason an author writes a specific sele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author’s purpos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905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hotograph, drawing, or chart that accompanies a tex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graphic sour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answer to a division proble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quotien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oni needs 120 inches of rope in feet for his tree swing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t is 10 fee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riangle with an angle that measures more than 180°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btuse triang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air of lines that intersect to form right angl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erpendicular lin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number that has but two factors: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ne and itself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rime numb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line of latitude is located at 0° latitud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quato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ocean located off the coast of Californi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Pacific Oc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9810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igh flat mountain with steep sid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ocial Studi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6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es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end of a riv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outh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002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ongest river in North America. 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issouri Riv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19810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erson, place, thing, or ide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60948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ere, when, how, and to what extent about a ver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verb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3049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at kind, which one, and how many about a nou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-30492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38080" y="213372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way of living and eating unique to a speci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jectiv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rom, to, near, beneath, above, belo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reposi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d, but, &amp; o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jun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istance around a circl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circum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ich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consumer that eats only mea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r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18288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kind of consumer that feeds on dead and decaying animal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2:21:19Z</dcterms:created>
  <dc:creator>Valued Customer</dc:creator>
  <dc:description/>
  <dc:language>en-US</dc:language>
  <cp:lastModifiedBy>Teacher Teacher</cp:lastModifiedBy>
  <dcterms:modified xsi:type="dcterms:W3CDTF">2010-06-22T01:22:59Z</dcterms:modified>
  <cp:revision>31</cp:revision>
  <dc:subject/>
  <dc:title>No Slide Title</dc:title>
</cp:coreProperties>
</file>