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5550-14FA-4645-B683-24D53C61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067-ABD1-410E-B314-5DD0E83B7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B30-9439-440C-97F3-AFE4E0A9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64D-3429-43EC-8360-89FD2F06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C4B-FE8B-4DE8-AA4D-B6F032BB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132-1746-43A7-9D56-38C947CF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BD0-D6D8-4CE8-9151-65AEEB4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730-500E-488B-8510-C13E32E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EF2-E580-41BD-BE17-18A9EFED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834-C877-47B1-869A-005A8DE3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644-F2E8-4E04-AA97-93F87076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C43-85FF-402A-8AEB-41D491D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678-6A79-44CF-ACF0-3F48F9C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8E2-BCD0-4984-BF97-858A053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B5E-3B3D-4165-99F4-0349C09B941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ructions for using this Jeopardy Board, which has been modified by R. Fox to contain 5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Grade questions 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 file in PowerPoint and under View select slide show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  On the first screen click the bottom right-hand corner to beg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category and amount. The answer will appear. Player must state question: Who is? What i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. Scores must be kept manually. If playing whole group, you could provide index cards with amounts to more easily keep scor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**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decompos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st humans are this kind of consum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m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iver of all life energ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eak of a story’s a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limax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ter Piper picked a peck of pickled pepp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lliterat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s cold as 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imi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ason an author writes a specific sele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uthor’s purp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hotograph, drawing, or chart that accompanies a tex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phic sour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nswer to a division proble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quotien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ni needs 120 inches of rope in feet for his tree swi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t is 10 fee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riangle with an angle that measures more than 180°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btuse triang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air of lines that intersect to form right angl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erpendicular li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number that has but two factors: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and itself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ime numb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line of latitude is located at 0° latitu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quat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ocean located off the coast of Californ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Pacific Oc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igh flat mountain with steep sid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ocial Stud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es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end of a r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outh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ongest river in North America. 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issouri Riv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erson, place, thing, or ide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ere, when, how, and to what extent about a ver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verb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3049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at kind, which one, and how many about a nou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way of living and eating unique to a spec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ject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om, to, near, beneath, above, be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reposi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d, but, &amp; o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jun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stance around a circl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ircum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ich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onsumer that eats only mea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r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kind of consumer that feeds on dead and decaying anima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21:19Z</dcterms:created>
  <dc:creator>Valued Customer</dc:creator>
  <dc:description/>
  <dc:language>en-US</dc:language>
  <cp:lastModifiedBy>Teacher Teacher</cp:lastModifiedBy>
  <dcterms:modified xsi:type="dcterms:W3CDTF">2010-06-22T01:22:59Z</dcterms:modified>
  <cp:revision>31</cp:revision>
  <dc:subject/>
  <dc:title>No Slide Title</dc:title>
</cp:coreProperties>
</file>