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E45B-1228-4777-8F5B-5DAF5DD56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CB8-CDA1-49A9-91A3-E7456A8A1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03F-2ADA-45CD-8CEF-4A7C6056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CD4-81CD-4391-B7C1-62406CA8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2CF-E83F-4DE7-B173-E3A1429D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65E-EA0B-4D77-87FE-2C72D47C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893-7ADA-4737-8D79-67FA2557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4A8-5D36-46B0-BF28-90ADF28D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377-5696-4DC9-B27F-358A911C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452-479B-4575-8D42-568B59A9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CA9-4989-480D-8595-63453BF3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DA3-0AFD-4203-BF5A-0664D1C1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B12-2101-456D-A606-AB85887E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A31-233D-443E-A3A2-9D09289C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7E73-C8F3-410E-ABDC-486D1C25669B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25.xml"/><Relationship Id="rId11" Type="http://schemas.openxmlformats.org/officeDocument/2006/relationships/slide" Target="slide35.xml"/><Relationship Id="rId12" Type="http://schemas.openxmlformats.org/officeDocument/2006/relationships/slide" Target="slide45.xml"/><Relationship Id="rId13" Type="http://schemas.openxmlformats.org/officeDocument/2006/relationships/slide" Target="slide17.xml"/><Relationship Id="rId14" Type="http://schemas.openxmlformats.org/officeDocument/2006/relationships/slide" Target="slide27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9.xml"/><Relationship Id="rId21" Type="http://schemas.openxmlformats.org/officeDocument/2006/relationships/slide" Target="slide39.xml"/><Relationship Id="rId22" Type="http://schemas.openxmlformats.org/officeDocument/2006/relationships/slide" Target="slide49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" Target="slide33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tructions for using this Jeopardy Board, which has been modified by R. Fox to contain 5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Grade questions .</a:t>
            </a:r>
            <a:endParaRPr b="0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en file in PowerPoint and under View select slide show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.   On the first screen click the bottom right-hand corner to begin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 category and amount. The answer will appear. Player must state question: Who is? What i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. Scores must be kept manually. If playing whole group, you could provide index cards with amounts to more easily keep scor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***When clicking on the slide to move to the next appropriate slide, be sure you see the hand, not the arrow.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(If you put your cursor over a text box, it will be an arrow and WILL NOT take you to the right location.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decompos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ost humans are this kind of consum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m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giver of all life energ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eak of a story’s a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climax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051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ter Piper picked a peck of pickled pepper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lliteratio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s cold as ic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simi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eason an author writes a specific selectio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author’s purpos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905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photograph, drawing, or chart that accompanies a tex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graphic sour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answer to a division problem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quotien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oni needs 120 inches of rope in feet for his tree swing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t is 10 fee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riangle with an angle that measures more than 180°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obtuse triangl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air of lines that intersect to form right angl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erpendicular lin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number that has but two factors: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ne and itself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rime numb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line of latitude is located at 0° latitud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quato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ocean located off the coast of Californi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Pacific Ocea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9810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igh flat mountain with steep sid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ocial Studi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Gramma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6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es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end of a rive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mouth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0020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ongest river in North America. 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issouri Riv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19810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erson, place, thing, or idea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60948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ere, when, how, and to what extent about a verb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verb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3049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word that answers what kind, which one, and how many about a nou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-30492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38080" y="213372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way of living and eating unique to a speci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djectiv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rom, to, near, beneath, above, belo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reposi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nd, but, &amp; o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jun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MacOS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distance around a circl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circum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ich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1600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consumer that eats only meat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rnivo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18288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pecific kind of consumer that feeds on dead and decaying animal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2:21:19Z</dcterms:created>
  <dc:creator>Valued Customer</dc:creator>
  <dc:description/>
  <dc:language>en-US</dc:language>
  <cp:lastModifiedBy>Teacher Teacher</cp:lastModifiedBy>
  <dcterms:modified xsi:type="dcterms:W3CDTF">2010-06-22T01:22:59Z</dcterms:modified>
  <cp:revision>31</cp:revision>
  <dc:subject/>
  <dc:title>No Slide Title</dc:title>
</cp:coreProperties>
</file>